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1E3-868B-4989-9816-6303BE92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C5D-2BA0-4566-B6C6-24391576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0FF-8496-4E12-8440-954E1AC8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5DE-8F1F-4BAC-AD42-D2FDD08D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9E24-892D-464E-BF1D-BE51C0AC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8CAE-BE74-42D5-838C-3E863D04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4824-3D64-4D23-87B9-5DCAD873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C68-C21A-4814-A7A7-ADFF4494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D306-DBBF-40D7-86C6-B25F22D0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A853-B45B-40E1-A6E3-124D3521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1444-E6E0-43FE-89C7-D6CBF577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DE1-D1F0-40E2-B75B-ECE94A7F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F890-01E4-4D43-B2B7-3B66DED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2D57-7FCF-48F5-8732-602A58EF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A2EE-6802-4810-B3DD-AEF7A439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FC7E-BA00-4ACE-A1D0-D0D114AD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E5B4-CD47-4E2E-87A4-8982EDC0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9841-099C-45A0-9401-6B6012B0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9654-B5F8-4715-A142-FBE853A3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B968-0CA3-457D-9EDD-C9BB129E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0147-2DE6-48DD-B28E-1F5F0BCA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8E8C-9B39-44F6-9E9B-0501F38D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E07-50C8-4DAA-BD9E-A28AF8CD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30B9-2D5F-4490-AC22-F56CA542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D4E3-1779-4934-8B2B-2D980A9D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576D-95AE-4827-B4FB-A2907C2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672DB-5910-4D43-94C9-3005046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BFA8-6774-4AB4-B0C2-E5C21CBD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A0C6-DAC4-4EAB-B273-EA9BEE8C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1CB1-4E75-419F-872F-2AF28CCF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1C7BA-8ED8-4C1A-AE21-8903DCF1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165A-86E3-44B3-BA97-3C0E69B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2987E-168B-4617-A237-6986F7F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151-A5C9-4972-BEB0-DA0934DE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775E-C5D0-4C6D-9F95-642C4700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9EBBE-3560-4F25-BCF1-E9705A9F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C2B3-D50D-46CF-8D5A-D954D294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4FAB-B5DE-45AB-9771-0521D62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FEB1-86BC-4F6A-A93A-19CED93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26B0-EEA8-4461-A8E8-A452855C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3D9D-69A6-4F7B-A2EE-5089BE6B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62AC-C82A-48C0-B327-A3B1F42B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BBB56-016D-4234-B23B-BC6213CF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4E299-18D0-4276-BB56-17D24C77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D55-3126-429B-B28F-DA7F7EC0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EE963-4182-4457-8EBE-ACFBBD2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47B6-04B4-491E-A555-EB76DACB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F89BC-576C-476C-AFE0-8924B1DE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1C9B-1A14-426B-BB29-3B34C80F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61C09-6F0D-4B53-BF39-6AA4ABE9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DBAFD-2E38-443E-8E5C-19F734B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05ED-59FE-4337-AA14-0533D378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2CF85-2268-490D-B2F4-747AEBFB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0D9D4-C4D5-4D25-ABC5-C801B5C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8DD71-C910-4F68-A375-498B7EFD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8BA-EFC2-4BE1-92CC-052E862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8A561-5878-44EF-97FB-F0DB16FF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27A-20B7-47E3-BFC2-0256730F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F5C-8F09-4002-AAE9-E8D4E84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E17-3F8F-4393-A3B7-664052C7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1AF9D-5F49-487F-90DC-3AEA36949C2E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6B61B-C1F0-4736-8029-174BE03C07E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FE37B-4A71-46F6-93D5-EDF789FF266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E8129-A7DE-4B5D-A12B-AAFDD7865A9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1145F-2DA7-4393-874D-A384A6CE4385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A726F-1004-4307-91FA-90D3BFA60BC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98260-6F48-4306-BBA2-2A0AF0CA6F42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E2BED-E4EA-4942-8358-80D8FCB8473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DDC16-45E9-4532-99CF-7E98065B30A3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79F08-56AA-4A6B-90A5-47105739304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images.jpg"/>
          <p:cNvPicPr/>
          <p:nvPr/>
        </p:nvPicPr>
        <p:blipFill>
          <a:blip r:embed="rId3"/>
          <a:stretch/>
        </p:blipFill>
        <p:spPr>
          <a:xfrm>
            <a:off x="685800" y="1625760"/>
            <a:ext cx="226044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rongly against federal government expans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zed the “common man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Still favored white, middle and upper class me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4" name="Picture 3" descr="images1.jpg"/>
          <p:cNvPicPr/>
          <p:nvPr/>
        </p:nvPicPr>
        <p:blipFill>
          <a:blip r:embed="rId2"/>
          <a:stretch/>
        </p:blipFill>
        <p:spPr>
          <a:xfrm>
            <a:off x="2057400" y="3429000"/>
            <a:ext cx="457200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ced relocation of Native Americans to reserv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il of T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Cherokee in Georgia resiste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They were marched to a reservation in Oklahom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Close to 4,000 Cherokee people died as a result of the migra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Content Placeholder 3" descr="images2.jpg"/>
          <p:cNvPicPr/>
          <p:nvPr/>
        </p:nvPicPr>
        <p:blipFill>
          <a:blip r:embed="rId1"/>
          <a:srcRect l="0" t="-4574" r="0" b="-4574"/>
          <a:stretch/>
        </p:blipFill>
        <p:spPr>
          <a:xfrm>
            <a:off x="457200" y="762120"/>
            <a:ext cx="850428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w tariff on imported goods passed in 1828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 Carolina threatens to leave the Un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ackson passes Force Bil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uthorizes the use of military to enforce acts of Congress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0" name="Content Placeholder 6" descr="images3.jpg"/>
          <p:cNvPicPr/>
          <p:nvPr/>
        </p:nvPicPr>
        <p:blipFill>
          <a:blip r:embed="rId2"/>
          <a:srcRect l="-22126" t="0" r="-22126" b="0"/>
          <a:stretch/>
        </p:blipFill>
        <p:spPr>
          <a:xfrm>
            <a:off x="4178160" y="1600200"/>
            <a:ext cx="352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ckson thinks bank is unconstitution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iminates it after re-election in 183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ributes to Panic of 183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Content Placeholder 4" descr="images4.jpg"/>
          <p:cNvPicPr/>
          <p:nvPr/>
        </p:nvPicPr>
        <p:blipFill>
          <a:blip r:embed="rId2"/>
          <a:srcRect l="0" t="-35788" r="0" b="-35788"/>
          <a:stretch/>
        </p:blipFill>
        <p:spPr>
          <a:xfrm>
            <a:off x="4178160" y="1600200"/>
            <a:ext cx="352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3:21:37Z</dcterms:created>
  <dc:creator>Moffa, David</dc:creator>
  <dc:description/>
  <dc:language>en-US</dc:language>
  <cp:lastModifiedBy>Moffa, David</cp:lastModifiedBy>
  <dcterms:modified xsi:type="dcterms:W3CDTF">2011-02-08T13:40:29Z</dcterms:modified>
  <cp:revision>7</cp:revision>
  <dc:subject/>
  <dc:title>Andrew Jackson</dc:title>
</cp:coreProperties>
</file>